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86E5-9BDB-4C64-B75A-891058C13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E4D6-8D2E-4538-B3FB-E2E107A3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A25D-BCBA-4F26-995E-DA5C1091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701C-DED5-431C-BB52-E45C3908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49DA-9B33-4302-BCE4-6873666F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92D4-1950-4F03-BD68-6733C80E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212E-FEEA-4ED7-AA20-7537B832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F49D-F8B6-4AEC-B50C-DCBEA01E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ECDB-B15A-42E8-BED1-82EEEF46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948F-1DF5-4C9C-B02E-8BF6C6F2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8B59-CFBB-4020-9CCF-BA616359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51CA-73DA-4619-A282-7FE99894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EBDF-705C-4D20-9B34-14E71FDA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B381-A843-41DB-A238-E9BF351A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2433-F6B8-427D-9DF7-D46E3D11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96D5-FF53-4D07-9A87-E0A441A8B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B4F5-92EF-4EEE-8960-DDDB679A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33FF-3836-4342-8A02-E25527B1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90FD-F36D-41B1-8284-9749DDDD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20A8-22E1-467B-B380-825383E8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7BBE-F4F2-4E1C-B37D-563BB333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3E81-E55C-4418-9F08-4B8D39B6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19D8-4EC1-4AB9-9243-03718118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93C4-D076-4E62-A6C9-1A1167EA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CC08-584E-491A-A662-DD61ADAE1C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D197-A7AF-4B4C-A1D4-4048DA3A7D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6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2000" y="404640"/>
            <a:ext cx="88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РГАНИЗАЦИОННЫЕ ФОРМЫ ТОРГОВ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1965600" cy="1225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900000" y="3429000"/>
            <a:ext cx="2592360" cy="1720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492360" y="1341360"/>
            <a:ext cx="1855800" cy="2471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5724360" y="1557360"/>
            <a:ext cx="2382840" cy="1787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5867280" y="3789360"/>
            <a:ext cx="1800360" cy="1347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111720" y="5950080"/>
            <a:ext cx="279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ЧИТЕЛЬ ЭКОНОМ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МОУ НОВОСЁЛКОВСКАЯ СОШ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ГУЛЯЕВ А.Ф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ТОРГОВЫ АВТОМАТЫ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КРУГЛОСУТОЧНАЯ РАБОТА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СУТСТВИЕ ПЕРСОНА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484360" y="1700280"/>
            <a:ext cx="4216320" cy="4216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0" y="1700280"/>
            <a:ext cx="2892600" cy="4222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6286680" y="1700280"/>
            <a:ext cx="2857320" cy="42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9280" y="476280"/>
            <a:ext cx="86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КАТАЛО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ФОТОГРАФИЯ ТОВАРА И ЕГО ОПИС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2736720" cy="3168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203640" y="1125360"/>
            <a:ext cx="2808360" cy="3168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156360" y="3284640"/>
            <a:ext cx="270180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476280"/>
            <a:ext cx="86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ИНТЕРНЕТ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92720" y="333360"/>
            <a:ext cx="3095640" cy="1871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627280" y="549360"/>
            <a:ext cx="1944720" cy="288720"/>
          </a:xfrm>
          <a:custGeom>
            <a:avLst/>
            <a:gdLst>
              <a:gd name="textAreaLeft" fmla="*/ 243000 w 1944720"/>
              <a:gd name="textAreaRight" fmla="*/ 1701720 w 19447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2565360"/>
            <a:ext cx="86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ОЧТА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56000" y="2637000"/>
            <a:ext cx="1944720" cy="288720"/>
          </a:xfrm>
          <a:custGeom>
            <a:avLst/>
            <a:gdLst>
              <a:gd name="textAreaLeft" fmla="*/ 243000 w 1944720"/>
              <a:gd name="textAreaRight" fmla="*/ 1701720 w 19447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292720" y="2492280"/>
            <a:ext cx="3095640" cy="2016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08000" y="4653000"/>
            <a:ext cx="86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ТЕЛЕВИДЕНИЕ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00360" y="4724280"/>
            <a:ext cx="1944720" cy="289080"/>
          </a:xfrm>
          <a:custGeom>
            <a:avLst/>
            <a:gdLst>
              <a:gd name="textAreaLeft" fmla="*/ 243000 w 1944720"/>
              <a:gd name="textAreaRight" fmla="*/ 1701720 w 194472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292720" y="4797360"/>
            <a:ext cx="3095640" cy="18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404640"/>
            <a:ext cx="9142920" cy="5110920"/>
            <a:chOff x="0" y="404640"/>
            <a:chExt cx="9142920" cy="5110920"/>
          </a:xfrm>
        </p:grpSpPr>
        <p:cxnSp>
          <p:nvCxnSpPr>
            <p:cNvPr id="90" name="_s6173"/>
            <p:cNvCxnSpPr>
              <a:stCxn id="91" idx="1"/>
              <a:endCxn id="92" idx="2"/>
            </p:cNvCxnSpPr>
            <p:nvPr/>
          </p:nvCxnSpPr>
          <p:spPr>
            <a:xfrm rot="10800000">
              <a:off x="4570920" y="1681560"/>
              <a:ext cx="653760" cy="319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" name="_s6171"/>
            <p:cNvCxnSpPr>
              <a:stCxn id="94" idx="3"/>
              <a:endCxn id="92" idx="2"/>
            </p:cNvCxnSpPr>
            <p:nvPr/>
          </p:nvCxnSpPr>
          <p:spPr>
            <a:xfrm flipV="1">
              <a:off x="3918240" y="1681560"/>
              <a:ext cx="653760" cy="319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" name="_s6170"/>
            <p:cNvCxnSpPr>
              <a:stCxn id="96" idx="1"/>
              <a:endCxn id="92" idx="2"/>
            </p:cNvCxnSpPr>
            <p:nvPr/>
          </p:nvCxnSpPr>
          <p:spPr>
            <a:xfrm rot="10800000">
              <a:off x="4570920" y="1681560"/>
              <a:ext cx="653760" cy="128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" name="_s6169"/>
            <p:cNvCxnSpPr>
              <a:stCxn id="98" idx="3"/>
              <a:endCxn id="92" idx="2"/>
            </p:cNvCxnSpPr>
            <p:nvPr/>
          </p:nvCxnSpPr>
          <p:spPr>
            <a:xfrm flipV="1">
              <a:off x="3918240" y="1681560"/>
              <a:ext cx="653760" cy="128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2" name="_s6165"/>
            <p:cNvSpPr/>
            <p:nvPr/>
          </p:nvSpPr>
          <p:spPr>
            <a:xfrm>
              <a:off x="2612160" y="40464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ahoma"/>
                </a:rPr>
                <a:t>МАГАЗИНЫ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6166"/>
            <p:cNvSpPr/>
            <p:nvPr/>
          </p:nvSpPr>
          <p:spPr>
            <a:xfrm>
              <a:off x="0" y="232128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УНИВЕРСАЛЬНЫЙ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6167"/>
            <p:cNvSpPr/>
            <p:nvPr/>
          </p:nvSpPr>
          <p:spPr>
            <a:xfrm>
              <a:off x="5224680" y="232128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СПЕЦИАЛИЗИ-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РОВАННЫЙ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6168"/>
            <p:cNvSpPr/>
            <p:nvPr/>
          </p:nvSpPr>
          <p:spPr>
            <a:xfrm>
              <a:off x="0" y="423792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ФИРМЕННЫЙ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6172"/>
            <p:cNvSpPr/>
            <p:nvPr/>
          </p:nvSpPr>
          <p:spPr>
            <a:xfrm>
              <a:off x="5224680" y="423792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САМООБСЛУЖИ-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ВАНИЯ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81880" y="488880"/>
            <a:ext cx="646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УНИВЕРСАЛЬНЫ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РГУЕТ ТОВАР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НОГО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4005360"/>
            <a:ext cx="4248000" cy="2754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24000" y="1341360"/>
            <a:ext cx="4319280" cy="2641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572000" y="4005360"/>
            <a:ext cx="4392720" cy="2728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572000" y="1341360"/>
            <a:ext cx="439272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ПЕЦИАЛИЗИРОВАННЫ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РГУЕТ ТОВАР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ДИНАКОВОГО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3314520" cy="252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003640" y="1628640"/>
            <a:ext cx="3579840" cy="252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771640" y="4221000"/>
            <a:ext cx="3529080" cy="24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ФИРМЕННЫ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РГУЕТ ТОВАР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ДНОЙ ФИР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195640" y="1341360"/>
            <a:ext cx="4321080" cy="3048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9280" y="3860640"/>
            <a:ext cx="4000680" cy="2778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427640" y="3860640"/>
            <a:ext cx="403380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АМООБСЛУЖИВАНИ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ДОСТУПНОСТЬ ТОВА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ЛЯ ПОКУПА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3600360" cy="2305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700360" y="2997360"/>
            <a:ext cx="3457440" cy="2447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651640" y="4405320"/>
            <a:ext cx="3492360" cy="24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476280"/>
            <a:ext cx="868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БИРЖ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СДЕЛКИ ЗАКЛЮЧАЮТСЯ ЧЕРЕЗ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СРЕДНИКОВ-БРОКЕР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ОВАР ПРОДАЁТСЯ БОЛЬШИМ ОП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08000" y="1989000"/>
            <a:ext cx="4751280" cy="3816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427640" y="1989000"/>
            <a:ext cx="4562280" cy="3810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79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476280"/>
            <a:ext cx="868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АУКЦИОН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ВАР ПОЛУЧАЕТ ТОТ, КТО БОЛЬШЕ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ПЛАТ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564000" y="1413000"/>
            <a:ext cx="5333760" cy="3571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08000" y="3429000"/>
            <a:ext cx="4895640" cy="32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ЯРМАР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ПЕРИОДИЧЕСКИ ОРГАНИЗУЕМАЯ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ПРЕДЕЛЁННОМ МЕСТЕ ТОРГОВ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3200" y="1498680"/>
            <a:ext cx="8877600" cy="5170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24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12:38:29Z</dcterms:created>
  <dc:creator>Customer</dc:creator>
  <dc:description/>
  <dc:language>en-US</dc:language>
  <cp:lastModifiedBy>КарМаН</cp:lastModifiedBy>
  <dcterms:modified xsi:type="dcterms:W3CDTF">2012-02-07T11:56:36Z</dcterms:modified>
  <cp:revision>3</cp:revision>
  <dc:subject/>
  <dc:title>Слайд 1</dc:title>
</cp:coreProperties>
</file>